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1BD-C0E4-4E20-A39B-B80C8D05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9E6-162F-49B0-833B-05B0347A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8D8-2E19-42EF-AD15-F336AF59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619-9A81-484F-8A6A-E60A502C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05B-04A2-4DDE-ACE7-4EEE61C2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B24-FCB8-4B79-A0F5-D7CC7E60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54C-26FD-43ED-8D7A-1D3F734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0E2-D0AB-4C87-AEE3-BE8911EB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4C4-7710-47EA-87D3-1CAE6118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CF5-F03F-4AF8-B5A7-40C53733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BA4-16FD-41A7-9921-00B4FD8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B1C-763E-4975-AB38-D102CE9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3F3-D543-42A4-96DB-F73CB8C583C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2588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città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he si recu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32040"/>
            <a:ext cx="9144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PROGETTO PER MONTEVARC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l centro da valorizzare, la città da completare, la collina da tutel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 febbraio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72960"/>
            <a:ext cx="9144000" cy="6491520"/>
            <a:chOff x="0" y="372960"/>
            <a:chExt cx="9144000" cy="64915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372960"/>
              <a:ext cx="9144000" cy="64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86840" y="2490120"/>
              <a:ext cx="11296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it-IT" sz="1000" spc="-1" strike="noStrike">
                  <a:solidFill>
                    <a:srgbClr val="ff0000"/>
                  </a:solidFill>
                  <a:latin typeface="Arial"/>
                </a:rPr>
                <a:t>via burzagli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5880" y="4286520"/>
              <a:ext cx="860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0000"/>
                  </a:solidFill>
                  <a:latin typeface="Arial"/>
                </a:rPr>
                <a:t>Ex - C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4440" y="3172680"/>
              <a:ext cx="1513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Levane cen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63880" y="2721960"/>
              <a:ext cx="2205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53080" y="5343840"/>
              <a:ext cx="11570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Via Marconi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00760" y="4073760"/>
              <a:ext cx="0" cy="1506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984400" y="5580360"/>
              <a:ext cx="111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28840" y="1236960"/>
              <a:ext cx="1895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74840" y="1011600"/>
              <a:ext cx="32828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it-IT" sz="1000" spc="-1" strike="noStrike">
                  <a:solidFill>
                    <a:srgbClr val="ff0000"/>
                  </a:solidFill>
                  <a:latin typeface="Arial"/>
                </a:rPr>
                <a:t>Piazza XX Settembre Inter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60440" y="1236600"/>
              <a:ext cx="968040" cy="2098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208280" y="3421080"/>
              <a:ext cx="0" cy="274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8280" y="3421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47800" y="1774440"/>
              <a:ext cx="1183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  Pastif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461400" y="2009520"/>
              <a:ext cx="1936440" cy="1560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8200" y="2009520"/>
              <a:ext cx="94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372320" y="3016800"/>
              <a:ext cx="1290960" cy="1506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96280" y="452340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48000" y="2588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città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he si recu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105264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5688360" cy="426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456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2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5688360" cy="426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16000" y="153972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692360" y="206064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3087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761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2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4163" b="0"/>
          <a:stretch/>
        </p:blipFill>
        <p:spPr>
          <a:xfrm>
            <a:off x="1476360" y="1268280"/>
            <a:ext cx="6267600" cy="405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2869" b="0"/>
          <a:stretch/>
        </p:blipFill>
        <p:spPr>
          <a:xfrm>
            <a:off x="1476360" y="1427040"/>
            <a:ext cx="6267600" cy="3880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77800" y="1282680"/>
            <a:ext cx="6232680" cy="392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 propone di istituire il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registro dei crediti edil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08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rtificate le entità delle demolizioni effett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79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’efficacia del riconoscimento del credito edilizio è subordinata alla realizzazione degli interventi di riqualificazione urbanistica o ambientale del 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740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692360" y="206064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709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1350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1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1750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1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77800" y="1282680"/>
            <a:ext cx="6232680" cy="3929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 propone di istituire il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registro dei crediti edil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079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’efficacia del riconoscimento del credito edilizio è subordinata alla realizzazione degli interventi di riqualificazione urbanistica o ambientale del 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2:03:44Z</dcterms:created>
  <dc:creator>BanchettiG</dc:creator>
  <dc:description/>
  <dc:language>en-US</dc:language>
  <cp:lastModifiedBy> </cp:lastModifiedBy>
  <dcterms:modified xsi:type="dcterms:W3CDTF">2010-03-24T12:03:49Z</dcterms:modified>
  <cp:revision>93</cp:revision>
  <dc:subject/>
  <dc:title>Diapositiva 1</dc:title>
</cp:coreProperties>
</file>